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861-8438-404F-9DCF-092D3DBA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E1A-F42D-4B3F-A7F4-40D629F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0DCCD-5C9C-4379-AC13-8B0BBEB5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3EBFF-C5FD-488F-AD23-997B49FF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5367A-26E2-4FA4-ABBA-205CBFA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A96B1-7024-46BB-B300-8F3A97A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AC9DE-4DEF-4E60-A7F7-5A457A2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F02EB-75DE-4CAB-AF2F-B57B1F2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44FCE-8208-401E-AA5F-4CF33ABA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8F3EE-2193-4333-A79D-B513F150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F6C17-8273-49B1-ADF4-06E13C93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C5F-D1FA-42DD-8AA8-FCE62494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500-DFD8-4509-872B-1F6F5A45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32D52-D25F-4ABF-8DE0-EE6894C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0225C-3E14-4FA9-9EAE-C861278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D5E4D-0A31-47A5-8D27-0BFAA12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ACE3-EB02-4999-A7F7-12215267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E385-E021-4084-972B-58B7210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F044B-F9F7-46D4-840C-45FDC3B9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A4CD-D4F5-426D-900F-A6C2A57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707-6E57-42F8-985B-3F3B8C0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DE559-C83F-46FE-825F-4C6B726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1F9C0-8F8C-498D-8EBB-1D4451A9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4B62-700F-4A43-8E6D-1C45B33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1478F-7DA3-42AE-9715-140F73C7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EC300-E32F-4FAD-83E6-AF007ACB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420C-0918-47E9-911A-3CB56241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9622-7538-4350-BC1C-663F2C6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9973-442E-4BB4-848B-6A0E059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E74B-C13C-4EEF-964B-9043D77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5750-C1EB-4132-B791-7DCEC7ED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A0E-7C79-4D59-AB27-CDF81CB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B8D2-1D73-451D-8000-4E54BDE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AE9E-2967-412D-AE59-2EE426B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5B95-964E-49E2-B6BA-5328E54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7808-522B-4983-9A93-2AD0F6E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2496-E395-453B-98A5-B8A09D3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ECFC-73B7-4E3F-B757-EE147B1E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350A-F4F1-4747-9BD3-4F9E4145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95CEB-9E84-4C60-B5AE-F2EB6128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25F64-4DC0-4984-BF06-F4B856E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ED1AB-EA8F-4C2F-BEBE-740BAD2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C27-4F3E-498A-AF36-427D8A6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7D75B-E39A-40B6-B51C-75EA99B3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C15E7-86E3-4CA6-8217-2EDE1EA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9D5C1-D936-4A71-8FEC-F58841E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F3833-F9F4-4668-A8F3-4929441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B03A3-FE2B-444D-A638-765EAFE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49B53-824E-44B9-A4DF-92A6C1A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D5672-817D-40F8-B1B3-E0F8F40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74480-5CCB-4F13-A10E-C41A5D72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28AC4-5699-461C-A480-2A869CB7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9BAA-E930-42E5-9CF1-D1C3D08D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86E-93FC-472E-A6CA-2A0267C7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E729-4B81-4793-8F9F-CFA2F47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5085-AF00-4511-A599-898B481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E139-A519-48EE-B5C4-5AFCE68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2DE3-343D-43D0-986F-1011A010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9B09-52E1-41C1-85BE-07BA90A5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7D0B-54F1-4A65-B16B-B3C0F45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9933-45FC-4B74-B1FE-9152E92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2E5D-F9EC-40D3-8693-8DB00CD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FB15-1689-4F01-931C-EC72FE7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6BB8-C34B-42F5-B4CF-B5737FC0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875-CEB1-4140-92B4-CAC585F2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A1DB-99AF-469C-94B6-2E4DD112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823B-FF5E-4403-97C9-4FA88BED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4E5CF-56B8-4949-ADEA-EE6CB59F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85A0-7126-4668-8909-862D2BF3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EDB9-5862-4CC4-93C7-981741EA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E84D-1F1A-446E-ADA3-700FFF6D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9025-CCC6-4A32-A196-605AD2B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87AA-ED10-4C2F-9EE3-691C7CB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6375-981E-4FC2-BC27-6D5DA4D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3397-5900-4121-8A74-F10AB21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90E-0330-45ED-B4F9-A276D09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7612-93D0-4FA6-8BF2-2933227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993AF-F947-4A39-9149-B7185DD8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C50D-EC5A-4384-89EA-890F90DF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C5B0-D4B6-4572-8042-21F11F5F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31DC-0D2E-4954-9076-A47C3245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FDBB-B7CE-43C3-965A-B2A8548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EC641-A4A2-44A2-958B-341C31F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DD3A-08C5-4C19-88BD-007D30A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7A00-F22E-4270-9790-99EBE5D6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E998-0D12-4042-A5E2-A87CD27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A2B-FF1E-4024-A1AF-6ED64C1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9408-5D44-41B7-B74C-BD066B8D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87E0-1719-4F7A-BB7C-0C8CC9C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CB07-64D5-4A04-9065-15D8727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25E6-7C05-49B3-BB29-B053052D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AA99-D13F-4BE3-80F6-B3BB5CEB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A4C4B-24F7-406B-8A0F-85BB7E15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92DAE-9A56-40DB-A2D9-278FCA3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FEF56B-F134-4126-8DA9-CBCEAC6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CC4D2-7C27-4732-81E1-2A2F8750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BE75A-D968-44AA-B78B-93C37CB6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E2D-01D8-468C-AA0C-DE17A72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2D9D9-E8AE-440E-B9C3-33E9F00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72EF0-7CFB-430D-A4E6-C219251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35624-1EF9-4522-AC5C-60457F2C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45EDF-30C4-4484-B8A0-BBFD8E8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599C6-9751-4C34-9582-E28C09A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62438-3910-459B-84AE-D0CF81F9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CC7B3-BDE7-432E-8EEF-C7D14EBB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CDD04-70CC-4696-A98E-586E4361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5A6C0-B8D9-451B-AEA6-DAB9B723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36F04-76B2-45AD-87CB-9CF732E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6830-0515-41F0-81E8-030770A4A8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42C5-331E-41D6-8C41-98C8E02D29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183-2D11-47E6-BDB3-3F55644A64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8EC2-C018-4617-B2B8-C16FBECDAD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9B8-E14C-4AF6-BA18-AE59A480F6B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DF7-8F34-48B6-92BD-16D3217811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723F-D1AB-424B-8256-34B816D899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5FC-382A-44F3-9C38-D426CE62779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E2B5-8814-49ED-ADCF-74819BA380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67560" cy="2236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raxis Prep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28240" y="152388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ssilization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oint past which language learners can not progress w/o exceptional effort or motiv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gative transfer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lating prior experience in a detrimental manner to a new task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miotic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tudy of signs and their meanings based on semantics (relation to referents), syntactic (relation among formal structures) &amp; pragmatics (relation to the effect they have on people)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457200" y="1646280"/>
          <a:ext cx="8229600" cy="447984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Theor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Basic Premi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Key El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orgi Lozan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earning is 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tter of attitude, not aptitud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sentation (prep stage where students are helped to relax &amp; form a positive attitud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irst Concert/Active Concert (active presentation of material to be lear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econd Concert/Passive Concert (students are told to relax &amp; list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actice (the use of games, puzzles, etc. to consolidate the learn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74200" cy="989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646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ransitional bilingual progra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s use of the idea that students will progress in L2 faster if proficient in their L1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Involves bilingual teaching in core subject areas with the learner transitioning to English only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intenance bilingual progra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uilds on L1 while learning L2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elieves that L1 should be enhanced &amp; preserved 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Enrichment model that builds both L1 &amp; L2 in a continual model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56476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57200" y="1646280"/>
          <a:ext cx="8229600" cy="393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Cogni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Affec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(Behavior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sychomo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hought or 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easureab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hat the student is able to 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Observab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know the difference between the types of objecti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eelings or cho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How the student chooses to behave or 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will demonstrate a positive attitude toward others of  different  cultures and language registe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hysical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What the student can per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LW complete jumping jacks as illustrated in clas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64592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ralinguistic features of communication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spects of language that are encoded separately from words (using vocal cues. . . Changing our speech patterns based on questions, punctuation, purpose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Meta-linguistic knowledge: 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wareness of the features &amp; rules of a given language, beyond simply being able to use them; interaction between language and a written tex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caffolding:  actions that build or increase comprehensio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are some scaffolding strategie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909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28600" y="1645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edagogical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 approach that looks at how we teach, particularly on the strategies we choose and how we present inform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lent way of teaching method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voids the use of vernacular; teacher is in control and is able to listen to L2s descriptions of actions performed and gestures us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7454880" cy="1092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621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Alveolar fricative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produced with the tip of the tongue on or near the tooth rid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/s/ in si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anner of articulation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s how the tongue, lips, jaw, &amp; other speech organs are involved in making a sound make contac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ypically, refers to consonants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749600" y="-648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2860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alato-alveolar fricative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produced with the tongue farther back in the mout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[S] as in sh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ircumlocution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irect way of saying something; use of wordiness to avoid getting to the poi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it’s not you; it’s me.  You’re great!  Anyone would be lucky to have a boyfriend like you.  One day, I’ll regret this decision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749600" y="146160"/>
            <a:ext cx="7175160" cy="1012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inimal pair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o words that differ in one sound onl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797400" indent="-18468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ample:  bit/pit, bet/set, lap/lab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Palatalization: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Rockwell"/>
              </a:rPr>
              <a:t>Pronounce a consonant with the tongue against the roof of the mouth</a:t>
            </a: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Redundancy reduction: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Rockwell"/>
              </a:rPr>
              <a:t>Redundancy is providing more information than is needed for communication; reduction is reducing the occurrence of this </a:t>
            </a: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217000" cy="1013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n using more than one adjective in a sentence, use the following order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62120" y="2209680"/>
          <a:ext cx="7696080" cy="1951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r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Opinion &amp; general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mension, size, &amp; we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A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hap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nice, fu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big, 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old, n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round, sq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762120" y="4267080"/>
          <a:ext cx="7696080" cy="1951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8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untry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urpose &amp;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green, 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English, Itali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wooden, cot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ample:  tennis (shoes), walking (stic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8510400" cy="1012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is the difference between the following forms of assessment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chievement (measures what a person knows or can do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oficiency (measures performance according to a set go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iagnostic (reveals strengths/weaknesse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lacement (used to determine accurate instructional need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erformance-based assessment (measures application of skills, etc. through meaningful 7 engaging tasks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907920" y="146160"/>
            <a:ext cx="830916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304920" y="1600200"/>
          <a:ext cx="8534160" cy="4297320"/>
        </p:xfrm>
        <a:graphic>
          <a:graphicData uri="http://schemas.openxmlformats.org/drawingml/2006/table">
            <a:tbl>
              <a:tblPr/>
              <a:tblGrid>
                <a:gridCol w="2133360"/>
                <a:gridCol w="1974960"/>
                <a:gridCol w="2292480"/>
                <a:gridCol w="2133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inguistic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Language experience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asel-reader appro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ight-word recogn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4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plores teaching based on ABCs, grammar, spelling, etc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akes use of students’ experiences and emphasizes mean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ased on commercialized series of books; scope &amp; sequen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ocuses on the learner’s ability to recognize high-functional or basic sight words instantly; automaticity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907920" y="146160"/>
            <a:ext cx="8255160" cy="1006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to communicate in social setting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cial langu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to achieve academicall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ademic langu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Use English in socially &amp; cultural  appropriate way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cio-cultural knowled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ty language learning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udents work together to determine what aspect of language is to be learn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unicative language teaching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mphasizes skills used in real communication rather than in academic situation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udio- lingual (ism) appro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3240" indent="-226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cuses on drill &amp; kill; believes that language learning is a matter of habit 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22:38Z</dcterms:created>
  <dc:creator>MComer</dc:creator>
  <dc:description/>
  <cp:keywords/>
  <dc:language>en-US</dc:language>
  <cp:lastModifiedBy>MComer</cp:lastModifiedBy>
  <dcterms:modified xsi:type="dcterms:W3CDTF">2010-04-19T16:07:09Z</dcterms:modified>
  <cp:revision>1</cp:revision>
  <dc:subject/>
  <dc:title>Linguistics Review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